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6EF-F28D-4944-A6E0-C59BAA73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7EEA-46DD-46D3-A24C-4D7ADBA7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127-0126-4D80-A693-5DA820E8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F7B-A7B4-4D05-A2D6-431A647A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1A87-A1C9-4BE0-A368-0240EE29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2DCC-BFF3-4867-9635-E00A00FD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9E09-064B-45F5-BB17-D6D2286D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416C-59BB-4635-AED0-03389B54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9DD4-5D12-469D-A020-385433A6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9070-DFDB-4F2B-A894-A50D2ADC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A3CA-6ADC-4687-B82D-FF6FF6FF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652-62F8-4729-AC2A-08CB9F95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878C-0835-472B-8F9B-75DEDD95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CABC-5EEC-4E3F-9B03-860995AF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FA6F-6B38-4A21-9200-519BE8C3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264E-18C0-4607-AA80-F85CE824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0832-42D5-4CC4-922F-D2FF2A81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2F809-7491-4806-A9FF-E9ADE1E8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03772-852D-40B0-B367-A36C6802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0FB65-2F3E-4DE7-8A05-142EA420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F232C-8C35-4AE9-A5EF-BC93F1BA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046EF-EC65-478B-9F1F-93E6268C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AA7-2179-4C58-84FA-064187C8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FEB72-7916-4880-8E86-1831F769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FAFF2-CF0C-49D9-8DC1-14E538F6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58641-4B64-4CC3-A4D5-1A188ACF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4CEFD-2B25-47E9-95D8-AC023D10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7C839-258C-42B8-B604-68AF49E4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C6487-3790-411E-B76C-78214E43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2DE78-7F9F-4618-A850-AFC2F300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09EBF-24A8-4A5C-A09E-A63778C8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4135F-D44A-4ED8-8F67-9970DFB0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E5A8E-3385-456F-BE16-371C4CED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C53-D82E-4F84-8612-CF205D05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121CC-3F13-4128-A6AD-E889A04F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8FD60-AE15-45AC-B573-62D84117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9BF48-8083-4272-A81E-1B2760B4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86BCA-EB4D-4858-B693-49315128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75B7C-38E8-4C49-81E7-AC550B18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0EA7F-86D9-41AC-A0F0-530D0CF4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7E5CE-B9BE-4AB6-ADD5-EDD1C498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DDE6A-EB99-4D70-9325-1433F635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8ED9E-9481-452A-82CF-42D4ED6E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17D82-AEE3-4EB6-B77F-ADCD3170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426-1F15-4559-A7BF-4BA0651F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DC08A-2285-471B-A634-8670DD32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3D94CC-D119-4C21-8BD9-8B783218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A789A-A932-4130-9FB6-96895E40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72926-B03B-47B1-A1F4-1ABA794E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330D4-658E-4F66-9BCD-36CAF8F1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2BA3C-18D8-4E2E-87D4-BC0E5ED8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43DB7-1FFA-40D1-BC38-AE7C5A43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A700E-A711-4910-B66B-4DFDA80D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E5AFF-E8FD-4DA1-9CD3-7FAB5B1D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9AAEE-A5EE-4432-9537-60321BCE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6A3-0A13-4BF3-A623-54337921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B68F6-DE45-4747-9A78-FFEABBE5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0CE31-BC14-498B-9E43-E0AA3BC4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4F9BC-8381-42FB-BC6C-D33B540B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E7710-42E8-4633-BB78-B8158838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60D167-CA54-43A1-AAFC-E2C3F703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DFA28-9652-4BB1-B473-87154433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A49A69-91E1-4F86-AB12-ABBBF93E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B61B6E-4BF3-4A58-B80E-6EEA5269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DAD21-44A8-41A7-B3EC-C2FD2EF2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EDAD6-8E75-47DD-B761-1D187045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D50-12C7-4A59-9D3F-08C6A3C2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DCA08E-2841-4786-98F8-3809DC19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7B17B7-D5E7-4F54-93D5-CDDE2CED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A0907-443B-4D05-B772-03CDDCDB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4705C-EDBA-45E1-AF8E-CA96BD84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AA3B50-BCFE-4A68-8E04-4360B2CD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03219-7CA8-4977-8379-900AD0DB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6DD55-8912-483E-84A3-87E6B8B6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1AAF37-D195-438E-9177-6E48903D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15020-755C-45D1-92B6-2529D17B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E40A2-8494-40DC-8767-35347B02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4D1-614E-4AF7-A9D7-90145C8B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5DA8B0-43E5-4E42-8070-2FE6AC51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8B798-486C-4CCF-AED4-C14203D1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C4BFFE-714C-461C-9E37-B6F145FF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1F0A89-293C-4026-A35E-2A370FE6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65E39-13B9-44B0-BC23-62C35747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F54-B401-4DE8-9242-8AAE506B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Egyenes összekötő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Egyenes összekötő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Egyenes összekötő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églalap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Egyenes összekötő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lipszi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6DD2-8C66-4586-94DD-9E9DF6D49F29}" type="slidenum">
              <a:rPr b="1" lang="hu-H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églalap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églalap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églalap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églalap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gyenes összekötő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gyenes összekötő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gyenes összekötő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gyenes összekötő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gyenes összekötő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gyenes összekötő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églalap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zis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zis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zis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lipszis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zis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EAE4-3B87-4203-86D5-EA52D7233C0A}" type="slidenum">
              <a:rPr b="1" lang="hu-H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gyenes összekötő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gyenes összekötő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gyenes összekötő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églalap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gyenes összekötő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zi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00C5-9311-4485-AC40-18CBAE008C60}" type="slidenum">
              <a:rPr b="1" lang="hu-H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églalap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églalap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églalap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églalap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gyenes összekötő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gyenes összekötő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gyenes összekötő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gyenes összekötő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gyenes összekötő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églalap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lipszis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lipszis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lipszis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lipszis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lipszis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gyenes összekötő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12A0-A6AD-4C92-9148-EC8B82232A0B}" type="slidenum">
              <a:rPr b="1" lang="hu-H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gyenes összekötő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gyenes összekötő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gyenes összekötő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églalap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gyenes összekötő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lipszi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450D-25C8-4AC1-ABAD-B51C76D2A080}" type="slidenum">
              <a:rPr b="1" lang="hu-H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gyenes összekötő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gyenes összekötő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gyenes összekötő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gyenes összekötő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églalap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gyenes összekötő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lipszis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9811-6059-4EA9-9BBF-0FA91A2513E4}" type="slidenum">
              <a:rPr b="1" lang="hu-H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gyenes összekötő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lipszis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Egyenes összekötő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églalap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Egyenes összekötő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gyenes összekötő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gyenes összekötő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15C5-96B4-4032-BBBE-7E30001D34FD}" type="slidenum">
              <a:rPr b="1" lang="hu-H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2960" y="744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0000"/>
                </a:solidFill>
                <a:latin typeface="Century Schoolbook"/>
              </a:rPr>
              <a:t>COUNTRY REPORT -  SLOVAKIA</a:t>
            </a:r>
            <a:br>
              <a:rPr sz="4000"/>
            </a:br>
            <a:r>
              <a:rPr b="1" lang="sk-SK" sz="3600" spc="-1" strike="noStrike">
                <a:solidFill>
                  <a:srgbClr val="3333cc"/>
                </a:solidFill>
                <a:latin typeface="Century Schoolbook"/>
              </a:rPr>
              <a:t>MAY, 2008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Kép 3" descr="Picture8.png"/>
          <p:cNvPicPr/>
          <p:nvPr/>
        </p:nvPicPr>
        <p:blipFill>
          <a:blip r:embed="rId1"/>
          <a:stretch/>
        </p:blipFill>
        <p:spPr>
          <a:xfrm>
            <a:off x="4143240" y="3000240"/>
            <a:ext cx="2718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33cc"/>
                </a:solidFill>
                <a:latin typeface="Century Schoolbook"/>
              </a:rPr>
              <a:t>THANKS  FOR  YOUR  ATTENTION !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Tartalom helye 3" descr="Picture3.jpg"/>
          <p:cNvPicPr/>
          <p:nvPr/>
        </p:nvPicPr>
        <p:blipFill>
          <a:blip r:embed="rId1"/>
          <a:stretch/>
        </p:blipFill>
        <p:spPr>
          <a:xfrm>
            <a:off x="1214280" y="1928880"/>
            <a:ext cx="56912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entury Schoolbook"/>
              </a:rPr>
              <a:t>COUNTRY REPORT SLOVAKIA 200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2920" y="1214280"/>
            <a:ext cx="8712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200" spc="-1" strike="noStrike">
                <a:solidFill>
                  <a:srgbClr val="3333cc"/>
                </a:solidFill>
                <a:latin typeface="Century Schoolbook"/>
              </a:rPr>
              <a:t>attacs  of  government  against private   health  care sector now centered  to  private health  insurance found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200" spc="-1" strike="noStrike">
                <a:solidFill>
                  <a:srgbClr val="3333cc"/>
                </a:solidFill>
                <a:latin typeface="Century Schoolbook"/>
              </a:rPr>
              <a:t>private  ambulatory  care  and primary care  is  still  discriminate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200" spc="-1" strike="noStrike">
                <a:solidFill>
                  <a:srgbClr val="3333cc"/>
                </a:solidFill>
                <a:latin typeface="Century Schoolbook"/>
              </a:rPr>
              <a:t>state owned university hospitals                               are favorise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entury Schoolbook"/>
              </a:rPr>
              <a:t>COUNTRY REPORT SLOVAKIA 200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2920" y="1214280"/>
            <a:ext cx="903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sk-SK" sz="2800" spc="-1" strike="noStrike">
                <a:solidFill>
                  <a:srgbClr val="ff0000"/>
                </a:solidFill>
                <a:latin typeface="Century Schoolbook"/>
              </a:rPr>
              <a:t>In private sector 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new  model of negotiation with insurance founds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 </a:t>
            </a: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based on mandates for  negotiation  for president of APF S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 </a:t>
            </a: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now 2400 physicians  inclu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our incomes is higher to 20%, as last year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entury Schoolbook"/>
              </a:rPr>
              <a:t>COUNTRY REPORT SLOVAKIA 200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2920" y="1214280"/>
            <a:ext cx="903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in primary care :   capitation fee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                               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+  fee for  service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fee for  service :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ECG                                                                                   home visits                                                       immunisa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occult bleeding test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entury Schoolbook"/>
              </a:rPr>
              <a:t>COUNTRY REPORT SLOVAKIA 200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2920" y="1214280"/>
            <a:ext cx="903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ff0000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in  medical  specialists ambulatory care :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fee for  service , with  strong  limitation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premisation :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drug  budget     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lab tests budge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ISO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entury Schoolbook"/>
              </a:rPr>
              <a:t>COUNTRY REPORT SLOVAKIA 200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2920" y="1214280"/>
            <a:ext cx="903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ff0000"/>
                </a:solidFill>
                <a:latin typeface="Century Schoolbook"/>
              </a:rPr>
              <a:t>Preventive  Care  :       1.  GP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every two years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up 40   ECG  ,  man : up to  50  PSA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new :  HP test in 18. year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imunisation against  pneumococcu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entury Schoolbook"/>
              </a:rPr>
              <a:t>COUNTRY REPORT SLOVAKIA 200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2920" y="1214280"/>
            <a:ext cx="903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ff0000"/>
                </a:solidFill>
                <a:latin typeface="Century Schoolbook"/>
              </a:rPr>
              <a:t>Preventive  Care  :                                                           2 . primary care  pediatry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extra fee for  preventive activities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high range of  examina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high  range  of  immunisation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entury Schoolbook"/>
              </a:rPr>
              <a:t>COUNTRY REPORT SLOVAKIA 200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2920" y="1214280"/>
            <a:ext cx="903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sk-SK" sz="2800" spc="-1" strike="noStrike">
                <a:solidFill>
                  <a:srgbClr val="ff0000"/>
                </a:solidFill>
                <a:latin typeface="Century Schoolbook"/>
              </a:rPr>
              <a:t>Preventive  Care                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sk-SK" sz="2800" spc="-1" strike="noStrike">
                <a:solidFill>
                  <a:srgbClr val="ff0000"/>
                </a:solidFill>
                <a:latin typeface="Century Schoolbook"/>
              </a:rPr>
              <a:t>3.  gynecology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 </a:t>
            </a: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screening of  ca  cervicis uteri :                                     23 -64 year old,  every year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screening of  ca  mammae :                                      40 – 69 yer old  ,  every two year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0000"/>
                </a:solidFill>
                <a:latin typeface="Century Schoolbook"/>
              </a:rPr>
              <a:t>COUNTRY REPORT SLOVAKIA 2008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2920" y="1214280"/>
            <a:ext cx="9036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ff0000"/>
                </a:solidFill>
                <a:latin typeface="Century Schoolbook"/>
              </a:rPr>
              <a:t>Preventive  Care :    4.  stomatology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every year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if  citizen do not take part 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next year </a:t>
            </a:r>
            <a:r>
              <a:rPr b="1" lang="en-GB" sz="3000" spc="-1" strike="noStrike">
                <a:solidFill>
                  <a:srgbClr val="3333cc"/>
                </a:solidFill>
                <a:latin typeface="Century Schoolbook"/>
              </a:rPr>
              <a:t>the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stomatology care is no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  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cover</a:t>
            </a:r>
            <a:r>
              <a:rPr b="1" lang="en-GB" sz="3000" spc="-1" strike="noStrike">
                <a:solidFill>
                  <a:srgbClr val="3333cc"/>
                </a:solidFill>
                <a:latin typeface="Century Schoolbook"/>
              </a:rPr>
              <a:t>ed</a:t>
            </a:r>
            <a:r>
              <a:rPr b="1" lang="sk-SK" sz="3000" spc="-1" strike="noStrike">
                <a:solidFill>
                  <a:srgbClr val="3333cc"/>
                </a:solidFill>
                <a:latin typeface="Century Schoolbook"/>
              </a:rPr>
              <a:t> by basic insurance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20:19:40Z</dcterms:created>
  <dc:creator>magnet</dc:creator>
  <dc:description/>
  <dc:language>en-US</dc:language>
  <cp:lastModifiedBy>Brigitte Ruppitsch</cp:lastModifiedBy>
  <dcterms:modified xsi:type="dcterms:W3CDTF">2008-05-26T10:55:41Z</dcterms:modified>
  <cp:revision>10</cp:revision>
  <dc:subject/>
  <dc:title>Country report -  Slovakia May, 2008</dc:title>
</cp:coreProperties>
</file>